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295-DD97-4AD4-A031-63E80896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4F5-83E7-43DD-B9E3-C7BB942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81A-2DA2-42F1-8DC7-976EE4D7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3D1-1480-4882-A76A-DC2898F2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9E1-A47B-4A15-A0FA-F86155C6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B01-3A74-434C-8589-2A523D87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FF0-DD2A-4F65-B396-91FD203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938-B3A9-4428-95C9-A9744C94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313-C7D9-4312-AB14-D99C3436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7BF-ACB4-4BBC-A9F6-30C3C31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E19-9FB6-4673-8BA7-B973357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EE4-85A7-4818-8FAD-68F54A3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A26B-52A4-43BF-A7C7-52B0BA98B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54120"/>
            <a:ext cx="36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 vs. Opi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3640" y="1793880"/>
            <a:ext cx="54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nea pigs are born with fur and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nea pigs are the best of all p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2240" y="2895480"/>
            <a:ext cx="79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ne of these sentences is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  A fact is something that is known to be  tru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.  Most importantly, a fact can be pro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472428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you prove that a statement is actually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272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ne of these statements can be proven?  Wher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look to prove it?  Can the other sentence be pr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4520" y="171360"/>
            <a:ext cx="82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is example and decide which part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s, and which ones are opin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71560"/>
            <a:ext cx="875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rder betwee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Canada, the Niagara River drops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 150 feet (46 meters) to form Niagara F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would anyone want to try such a st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going over Niagara in a barrel]?  It’s enough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hrill just to watch that water tumbling ove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9800" y="530208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decide which ones are Fa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which ones are just Opinio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04440" y="933480"/>
            <a:ext cx="6014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s              vs.             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609480"/>
            <a:ext cx="8601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xtra credit you may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 chart to list the fact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inions that you find in y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 book tonight for home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you choose to do this assignm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will need to turn in the T cha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your examples of facts and opinions tomorrow.  Good Luck!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1:23Z</dcterms:created>
  <dc:creator>User</dc:creator>
  <dc:description/>
  <dc:language>en-US</dc:language>
  <cp:lastModifiedBy>Rutherford County Schools</cp:lastModifiedBy>
  <dcterms:modified xsi:type="dcterms:W3CDTF">2007-04-22T19:59:03Z</dcterms:modified>
  <cp:revision>4</cp:revision>
  <dc:subject/>
  <dc:title>No Slide Title</dc:title>
</cp:coreProperties>
</file>